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72C5A-9679-4D13-9A2A-7C87F388C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BEF6D-FD0B-4009-9361-CF9724F9F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CC882-65DE-4811-A4E7-DA364D625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0E0C0-4ECD-47C4-880E-7418BE500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AAF85-FCDB-49DF-A33D-CE9E25548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32C2E-EBD0-4D75-80E5-460DAABF7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2E1AE-C3B0-4A3F-B37D-5384E8E0A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30A9B-2752-4244-8E1A-935F1E3A6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C129E-D636-439A-AB72-E3FAC9CD3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4604B-6DB8-4E12-B917-DC749C1BD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4C80F-A59E-4591-9743-874D6FE69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289FA-01D2-4C3F-9194-256BC3D50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30DDD-FE9C-49AA-9340-387ABC138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30E90-D42A-4CDE-B184-FCA207865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BB202-2472-45A2-81A9-BC251C527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AD183-F625-4199-A593-AAD54146A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81AF2-86F0-401A-967A-A715DDFB1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74F64-3587-4F61-ACA9-1DC3AB4F1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177C6-9EAB-4150-A3BD-134D57C0C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24C16-C00E-4982-90AD-B5A56A484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8EA62-D9A7-4EC4-BD16-FF1689DDE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1EB95-AFA0-4A6F-BB18-C4D244C03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5DC9C-4FBE-4675-A791-08886623A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5DA01-1EF8-4470-9544-F78A9256D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BCA3-B58C-484A-BA32-8068999E37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4145-40DD-471F-8127-254EB6682E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DOL</a:t>
            </a:r>
            <a:endParaRPr b="0" lang="en-US" sz="3600" spc="-1" strike="noStrike">
              <a:solidFill>
                <a:srgbClr val="8c0039"/>
              </a:solidFill>
              <a:latin typeface="Arial"/>
            </a:endParaRPr>
          </a:p>
        </p:txBody>
      </p:sp>
      <p:sp>
        <p:nvSpPr>
          <p:cNvPr id="8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ask aunt Bessie if she was gonna visit you’re mother on her trip to the southwes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nswer</a:t>
            </a:r>
            <a:endParaRPr b="0" lang="en-US" sz="3600" spc="-1" strike="noStrike">
              <a:solidFill>
                <a:srgbClr val="8c0039"/>
              </a:solidFill>
              <a:latin typeface="Arial"/>
            </a:endParaRPr>
          </a:p>
        </p:txBody>
      </p:sp>
      <p:sp>
        <p:nvSpPr>
          <p:cNvPr id="8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ask Aunt Bessie if she was going to visit your mother on her trip to the Southwes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Focused Freewrite</a:t>
            </a:r>
            <a:endParaRPr b="0" lang="en-US" sz="3600" spc="-1" strike="noStrike">
              <a:solidFill>
                <a:srgbClr val="8c0039"/>
              </a:solidFill>
              <a:latin typeface="Arial"/>
            </a:endParaRPr>
          </a:p>
        </p:txBody>
      </p:sp>
      <p:sp>
        <p:nvSpPr>
          <p:cNvPr id="9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eople have vivid memories of certain events from childhood. What sticks in your mind? Pick one particularly strong memory, good or bad,  and describe it in detai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Vocabulary-</a:t>
            </a:r>
            <a:endParaRPr b="0" lang="en-US" sz="3600" spc="-1" strike="noStrike">
              <a:solidFill>
                <a:srgbClr val="8c0039"/>
              </a:solidFill>
              <a:latin typeface="Arial"/>
            </a:endParaRPr>
          </a:p>
        </p:txBody>
      </p:sp>
      <p:sp>
        <p:nvSpPr>
          <p:cNvPr id="9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for test tomorrow</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KAM</a:t>
            </a: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5 ways the movie and the book differ. Explain in detail why you think the filmmaker chose to make these chan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Gatsby questions-</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as Dan Cody?</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Gatsby get angry when Nick tells him you can’t relive the past?</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Gatsby dream of Daisy doing?</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she wil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he Great Gatsby</a:t>
            </a: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hapter Nick reveals information about Gatsby’s true identity, background, attitudes and goals in life. What do we find out about him? What is your opinion of Gatsby at this point in the novel? Is he sympathetic?1 p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he Great Gatsby</a:t>
            </a:r>
            <a:endParaRPr b="0" lang="en-US" sz="3600" spc="-1" strike="noStrike">
              <a:solidFill>
                <a:srgbClr val="8c0039"/>
              </a:solidFill>
              <a:latin typeface="Arial"/>
            </a:endParaRPr>
          </a:p>
        </p:txBody>
      </p:sp>
      <p:sp>
        <p:nvSpPr>
          <p:cNvPr id="10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orksheet</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 partner</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Scrapbook</a:t>
            </a:r>
            <a:endParaRPr b="0" lang="en-US" sz="3200" spc="-1" strike="noStrike">
              <a:solidFill>
                <a:srgbClr val="000000"/>
              </a:solidFill>
              <a:latin typeface="Arial"/>
            </a:endParaRPr>
          </a:p>
          <a:p>
            <a:pPr marL="343080" indent="-343080">
              <a:spcBef>
                <a:spcPts val="11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th a Test Grade</a:t>
            </a:r>
            <a:endParaRPr b="0" lang="en-US" sz="4400" spc="-1" strike="noStrike">
              <a:solidFill>
                <a:srgbClr val="000000"/>
              </a:solidFill>
              <a:latin typeface="Arial"/>
            </a:endParaRPr>
          </a:p>
          <a:p>
            <a:pPr marL="343080" indent="-343080">
              <a:spcBef>
                <a:spcPts val="11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 I Like Pork and Beans</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4:04:30Z</dcterms:created>
  <dc:creator>rebecca</dc:creator>
  <dc:description/>
  <dc:language>en-US</dc:language>
  <cp:lastModifiedBy>rebecca</cp:lastModifiedBy>
  <dcterms:modified xsi:type="dcterms:W3CDTF">2009-03-05T20:48:31Z</dcterms:modified>
  <cp:revision>3</cp:revision>
  <dc:subject/>
  <dc:title>DOL</dc:title>
</cp:coreProperties>
</file>